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7.wmf" ContentType="image/x-wmf"/>
  <Override PartName="/ppt/media/image26.jpeg" ContentType="image/jpeg"/>
  <Override PartName="/ppt/media/image24.wmf" ContentType="image/x-wmf"/>
  <Override PartName="/ppt/media/image21.png" ContentType="image/png"/>
  <Override PartName="/ppt/media/image23.png" ContentType="image/png"/>
  <Override PartName="/ppt/media/image6.wmf" ContentType="image/x-wmf"/>
  <Override PartName="/ppt/media/image19.jpeg" ContentType="image/jpeg"/>
  <Override PartName="/ppt/media/image29.wmf" ContentType="image/x-wmf"/>
  <Override PartName="/ppt/media/image11.wmf" ContentType="image/x-wmf"/>
  <Override PartName="/ppt/media/image18.png" ContentType="image/png"/>
  <Override PartName="/ppt/media/image31.wmf" ContentType="image/x-wmf"/>
  <Override PartName="/ppt/media/image7.jpeg" ContentType="image/jpeg"/>
  <Override PartName="/ppt/media/image25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2.wmf" ContentType="image/x-wmf"/>
  <Override PartName="/ppt/media/image30.wmf" ContentType="image/x-wmf"/>
  <Override PartName="/ppt/media/image33.png" ContentType="image/png"/>
  <Override PartName="/ppt/media/image34.png" ContentType="image/png"/>
  <Override PartName="/ppt/media/image15.png" ContentType="image/png"/>
  <Override PartName="/ppt/media/image36.jpeg" ContentType="image/jpeg"/>
  <Override PartName="/ppt/media/image2.jpeg" ContentType="image/jpeg"/>
  <Override PartName="/ppt/media/image35.png" ContentType="image/png"/>
  <Override PartName="/ppt/media/image5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3.png" ContentType="image/png"/>
  <Override PartName="/ppt/media/image20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5E60-C759-4970-A5E3-7921D96B1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3610-382B-4EA7-A169-A69830808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1666-3E77-49D0-8130-318951F5E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51B7-AF60-467C-AB54-F8A8E0216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3B97-2E05-4F5B-A8FE-6F0B370D9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7677-EE40-492C-98A3-C3B088736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3600-E1AB-40DD-9A01-C74B788E0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F513-19BD-42E6-A6B4-41C96A950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0FF8-8B3B-4C3B-96B1-65B3A5E82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4A66-65B4-4547-8C80-7F35118DA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392D-DEAB-4796-9F1E-0986EFD6E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1D30-6D6C-4450-AC10-7AC86E7FF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CDB3-1BD0-4C19-AFBD-414BE653C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41CC-8F1D-471F-9397-A94114891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B4F54-0578-4E5D-A94E-7C2D7784C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65A4-1ACF-485D-A5E3-4E55D70AC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2C2B-3B87-449C-8F44-89D7ED8B8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A32B-CAC8-41D7-940F-D12D3C6A5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3FED-0794-4333-B67B-977730F80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0813-2818-4CA0-AD82-7E888F581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B85E0-57FE-4A73-AD43-02606CCEC9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579BD-4854-4D7F-8068-624C7EAA7F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42B95-1BF5-4246-82E0-D6C9501311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5E74B-E1A1-4323-9692-B39FCAF892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AE5A-8D59-4ABB-8E63-360C7050A0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CB9F-CBF9-4B8B-B21D-9F973BBFD7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0F54-F1A1-47D6-B035-C18BBEC6DC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E9EB-99AD-486D-BB33-1ECBECB515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2DFA-0DE3-40F5-BFCA-4ADD993B11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3F70-3FCA-4A5D-956A-ED0D48CE20C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C297-B4B4-48CC-AECF-6FC201F95C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6A45F-EF02-4415-B8DF-2E7E34E86D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8459-3061-4283-8AD8-C3CC37F13D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0C09-EA5C-4EA6-9FF2-5D97BFE6BA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43BC-F369-4DC4-BBB2-2B5E50B198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A2FD-5CF6-4532-89E8-F303422337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5F2F-F9CD-40D0-A52E-632495086A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B12C3-6401-49CA-9CA8-6475BA3BF3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BD0C8-E234-4CDF-9C1E-BC960580EA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7280D-318C-415D-AA82-D5102B77F7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EA81D-CF2B-4229-90B7-648CE390AA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B9A8C-13A5-42D4-9C1C-2918363A6A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D93FD-DF46-45B9-AD1C-8A87828D27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589DD-8EFA-449A-8E9E-F04FADD156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B7B7-AD11-498B-8BB3-E5438682B0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F0C0-F839-4B52-A0A8-0D08D2BAF1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F27A-9A58-45AC-BDCE-F1F1210C32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2362320" y="1600200"/>
            <a:ext cx="7315200" cy="27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Approvisionnement et gestion des stoc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9830-70EA-4EF9-AB11-E8F5CEC30D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 mettre en place un contrôle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1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3124080" y="2895480"/>
            <a:ext cx="31244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trôle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3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4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5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6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7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8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ssigner responsabi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6629400" y="21337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nalyse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des beso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1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tablir les besoins minim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2"/>
          <p:cNvSpPr/>
          <p:nvPr/>
        </p:nvSpPr>
        <p:spPr>
          <a:xfrm>
            <a:off x="3429000" y="5257800"/>
            <a:ext cx="2514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Développer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formulaires et regis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3"/>
          <p:cNvSpPr/>
          <p:nvPr/>
        </p:nvSpPr>
        <p:spPr>
          <a:xfrm>
            <a:off x="685800" y="449568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tablir système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our recevoir et sto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4"/>
          <p:cNvSpPr/>
          <p:nvPr/>
        </p:nvSpPr>
        <p:spPr>
          <a:xfrm>
            <a:off x="685800" y="2057400"/>
            <a:ext cx="266688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Maintenir </a:t>
            </a:r>
            <a:br>
              <a:rPr sz="1400"/>
            </a:b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un système de gestion de stock dans toutes les zones de sto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5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6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7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8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9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0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4BDA-8002-4567-BC55-5F466817CA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r les beso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re une analyse des besoins en consommables et réactifs 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stant toutes les analys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ant les consommables nécessaires pour chaque analy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ant l’information disponible pour estimer la conso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FF37-9A83-46D0-9454-5EB9D4E9B3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nalyse des besoins : Information Requ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80880" y="1295280"/>
            <a:ext cx="8534520" cy="5045040"/>
            <a:chOff x="380880" y="1295280"/>
            <a:chExt cx="8534520" cy="5045040"/>
          </a:xfrm>
        </p:grpSpPr>
        <p:sp>
          <p:nvSpPr>
            <p:cNvPr id="222" name="AutoShape 4"/>
            <p:cNvSpPr/>
            <p:nvPr/>
          </p:nvSpPr>
          <p:spPr>
            <a:xfrm>
              <a:off x="380880" y="1295280"/>
              <a:ext cx="8534520" cy="504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98691"/>
            <p:cNvSpPr/>
            <p:nvPr/>
          </p:nvSpPr>
          <p:spPr>
            <a:xfrm flipH="1" flipV="1">
              <a:off x="2616120" y="3436560"/>
              <a:ext cx="1022400" cy="1904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98685"/>
            <p:cNvSpPr/>
            <p:nvPr/>
          </p:nvSpPr>
          <p:spPr>
            <a:xfrm>
              <a:off x="542880" y="2631960"/>
              <a:ext cx="213192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Espace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 stockage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98690"/>
            <p:cNvSpPr/>
            <p:nvPr/>
          </p:nvSpPr>
          <p:spPr>
            <a:xfrm flipH="1">
              <a:off x="3393720" y="4313160"/>
              <a:ext cx="630360" cy="5050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98672"/>
            <p:cNvSpPr/>
            <p:nvPr/>
          </p:nvSpPr>
          <p:spPr>
            <a:xfrm>
              <a:off x="1704960" y="4699080"/>
              <a:ext cx="2131920" cy="1231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Temps pour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recevoir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comman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98689"/>
            <p:cNvSpPr/>
            <p:nvPr/>
          </p:nvSpPr>
          <p:spPr>
            <a:xfrm>
              <a:off x="5272200" y="4313160"/>
              <a:ext cx="635040" cy="503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98670"/>
            <p:cNvSpPr/>
            <p:nvPr/>
          </p:nvSpPr>
          <p:spPr>
            <a:xfrm>
              <a:off x="5465880" y="4699080"/>
              <a:ext cx="2131920" cy="12319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Niveau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 priorité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98688"/>
            <p:cNvSpPr/>
            <p:nvPr/>
          </p:nvSpPr>
          <p:spPr>
            <a:xfrm flipV="1">
              <a:off x="5657760" y="3435120"/>
              <a:ext cx="1022400" cy="191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98667"/>
            <p:cNvSpPr/>
            <p:nvPr/>
          </p:nvSpPr>
          <p:spPr>
            <a:xfrm>
              <a:off x="6248520" y="2631960"/>
              <a:ext cx="25128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1900" spc="-1" strike="noStrike">
                  <a:solidFill>
                    <a:srgbClr val="000000"/>
                  </a:solidFill>
                  <a:latin typeface="Arial"/>
                </a:rPr>
                <a:t>Consommation/mois       </a:t>
              </a:r>
              <a:br>
                <a:rPr sz="1600"/>
              </a:b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98687"/>
            <p:cNvSpPr/>
            <p:nvPr/>
          </p:nvSpPr>
          <p:spPr>
            <a:xfrm flipV="1">
              <a:off x="4648320" y="2583000"/>
              <a:ext cx="0" cy="620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98665"/>
            <p:cNvSpPr/>
            <p:nvPr/>
          </p:nvSpPr>
          <p:spPr>
            <a:xfrm>
              <a:off x="3276720" y="1352520"/>
              <a:ext cx="243972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Unité de 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conditionnement      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98662"/>
            <p:cNvSpPr/>
            <p:nvPr/>
          </p:nvSpPr>
          <p:spPr>
            <a:xfrm>
              <a:off x="3584520" y="3203640"/>
              <a:ext cx="228132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br>
                <a:rPr sz="3000"/>
              </a:b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d'un article </a:t>
              </a:r>
              <a:br>
                <a:rPr sz="3000"/>
              </a:b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7B39-98C1-4941-8D08-53DF14F2D9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533520"/>
            <a:ext cx="80773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 ce que la quantification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09480" y="1905120"/>
            <a:ext cx="7848720" cy="25311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La quantification</a:t>
            </a:r>
            <a:r>
              <a:rPr b="0" lang="fr-FR" sz="3200" spc="-1" strike="noStrike">
                <a:solidFill>
                  <a:srgbClr val="ffcc00"/>
                </a:solidFill>
                <a:latin typeface="Verdana"/>
              </a:rPr>
              <a:t> est un processus pour calculer la quantité requise d’un article pour une période donné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F9EA-3A80-421C-888A-67C865F473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tification :  </a:t>
            </a:r>
            <a:r>
              <a:rPr b="1" lang="fr-FR" sz="3600" spc="-1" strike="noStrike">
                <a:solidFill>
                  <a:srgbClr val="e40202"/>
                </a:solidFill>
                <a:latin typeface="Verdana"/>
              </a:rPr>
              <a:t>quand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t partie de la planification annu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ise en œuvre d’un nouveau programme de san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préparation à une épidémie potentielle ou identifi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40E3-0F95-4361-B1F0-42CC7D18AF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 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Comment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éthode basée sur la consomm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éthode basée sur la morbid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874B-DD7A-454B-8DDF-807911768E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antification: basée sur la conso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5943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asée sur la consommation ré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oit prendre en comp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réellement uti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gaspillés périmés ou abîm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en rupture de stock plus de 15 jours sur l’ann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Untitled-43"/>
          <p:cNvPicPr/>
          <p:nvPr/>
        </p:nvPicPr>
        <p:blipFill>
          <a:blip r:embed="rId1"/>
          <a:stretch/>
        </p:blipFill>
        <p:spPr>
          <a:xfrm>
            <a:off x="5638680" y="2695680"/>
            <a:ext cx="350532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7125-A8B0-4D09-A361-CEA0514CAE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Untitled-42"/>
          <p:cNvPicPr/>
          <p:nvPr/>
        </p:nvPicPr>
        <p:blipFill>
          <a:blip r:embed="rId1"/>
          <a:stretch/>
        </p:blipFill>
        <p:spPr>
          <a:xfrm>
            <a:off x="5105520" y="2395440"/>
            <a:ext cx="4038480" cy="25574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tification: basée sur la morbid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asée sur le nombre réel d’é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oit prendre en compt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aill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idence mala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actitude donnée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morbid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gnes de conduit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andardisées de trai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D6E5-DD53-44A2-98E1-52333C11E4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ir les registr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de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uméro de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ritères de refus ou d’acceptation des produ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d’utilisation/sortis du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 peut être utile de garder les registres sur le lieu de stock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storage_shelves"/>
          <p:cNvPicPr/>
          <p:nvPr/>
        </p:nvPicPr>
        <p:blipFill>
          <a:blip r:embed="rId1"/>
          <a:stretch/>
        </p:blipFill>
        <p:spPr>
          <a:xfrm>
            <a:off x="6647040" y="533520"/>
            <a:ext cx="2116080" cy="21333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la gestion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de stock 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j0234700"/>
          <p:cNvPicPr/>
          <p:nvPr/>
        </p:nvPicPr>
        <p:blipFill>
          <a:blip r:embed="rId2"/>
          <a:stretch/>
        </p:blipFill>
        <p:spPr>
          <a:xfrm rot="2522400">
            <a:off x="7559280" y="3511440"/>
            <a:ext cx="16002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4ECC-1B89-484E-87F8-CA9C9016DD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gistre de st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et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de ré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Quantit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de pére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ock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alance du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tre informatio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uméro étag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sti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6" descr=";og_book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B434-12BE-4132-B4E8-A71CB0735E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es étapes nécessaires pour mettre en œuvre un programme de contrôle et d’inventaire des 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mmer les facteurs à considérer avant d’acheter des consomm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velopper un plan de contrôle du système de gestion des stocks et des invent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iscuter l’importance de la documentation concernant l’approvisionnement et la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D76D-0DBD-4755-9BFB-D0BC3BCF7B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Inspecter les commandes au moment de la livra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es conte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’intég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la date de réception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our chaque prod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la date de pére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anger les nouveaux articles derrière ceux en sto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réer ou mettre à jour des regis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FIL15003"/>
          <p:cNvPicPr/>
          <p:nvPr/>
        </p:nvPicPr>
        <p:blipFill>
          <a:blip r:embed="rId1"/>
          <a:stretch/>
        </p:blipFill>
        <p:spPr>
          <a:xfrm>
            <a:off x="6781680" y="4495680"/>
            <a:ext cx="2076480" cy="1860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pe01495_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2075-821F-4A57-B120-56571F5161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p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Organisé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erm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ien ventil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s de soleil dir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gères soli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rticles à portée de 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écautions de sécurité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0" descr="5539_lores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storage_messy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8"/>
          <p:cNvSpPr/>
          <p:nvPr/>
        </p:nvSpPr>
        <p:spPr>
          <a:xfrm>
            <a:off x="6019920" y="3962520"/>
            <a:ext cx="2133360" cy="2057400"/>
          </a:xfrm>
          <a:prstGeom prst="pie">
            <a:avLst/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3" descr="j0434713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78E0-5AA7-4715-902D-472532A8F2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Rayonn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0" descr="j0232844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11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j0127642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17"/>
          <p:cNvSpPr/>
          <p:nvPr/>
        </p:nvSpPr>
        <p:spPr>
          <a:xfrm>
            <a:off x="685800" y="5334120"/>
            <a:ext cx="297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uivre les précautions de sécur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8" descr="j0187423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2" descr="in00200_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20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1"/>
          <p:cNvSpPr/>
          <p:nvPr/>
        </p:nvSpPr>
        <p:spPr>
          <a:xfrm>
            <a:off x="4572000" y="4343400"/>
            <a:ext cx="2133720" cy="2057400"/>
          </a:xfrm>
          <a:prstGeom prst="pie">
            <a:avLst/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B406-7026-459F-AAB5-0FFCB41E96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ite la “perte” d’un produ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conomise du te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ématise l’espac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sto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uméroter chambres froides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frigérateurs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t congélateur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t étiqueter les ray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8" descr="refrigerator_storage_cdc"/>
          <p:cNvPicPr/>
          <p:nvPr/>
        </p:nvPicPr>
        <p:blipFill>
          <a:blip r:embed="rId1"/>
          <a:srcRect l="0" t="0" r="0" b="25408"/>
          <a:stretch/>
        </p:blipFill>
        <p:spPr>
          <a:xfrm>
            <a:off x="4495680" y="4800600"/>
            <a:ext cx="3246480" cy="17017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rganisation des rayonn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7" descr="stock_room"/>
          <p:cNvPicPr/>
          <p:nvPr/>
        </p:nvPicPr>
        <p:blipFill>
          <a:blip r:embed="rId2"/>
          <a:stretch/>
        </p:blipFill>
        <p:spPr>
          <a:xfrm>
            <a:off x="5791320" y="1716120"/>
            <a:ext cx="320040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ABAF-8AAD-42EC-B85B-56BB2FC083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Utiliser des étiquettes avec des dates clairement visibl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te d’ouver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te de pérem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6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8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9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0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928C-DDCA-470B-9DD6-FEAD589DEE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rôle continu de la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6" descr="Untitled-41"/>
          <p:cNvPicPr/>
          <p:nvPr/>
        </p:nvPicPr>
        <p:blipFill>
          <a:blip r:embed="rId1"/>
          <a:stretch/>
        </p:blipFill>
        <p:spPr>
          <a:xfrm>
            <a:off x="457200" y="1050840"/>
            <a:ext cx="822960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B98F-32C0-4F34-A560-F5866E54B7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Gestion informatis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tat exact du stock, classification des prod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s dates de pére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tatistiques </a:t>
            </a: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planifier les ordres d’ac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 la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âches de gestion de stock facili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convéni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rdinateur sur place nécess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quiert un personnel form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docs_computer_africa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867280" y="3713040"/>
            <a:ext cx="26672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BE37-090C-4EDD-8568-FE53D426EB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 laboratoire bien géré possèdera un système d’approvisionnement et de gestion de st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système requière de planifier et contrôler: analyser les besoins, développer des formulaires et procédures, maintenir un inventaire. Le laboratoire devra maintenir un système de gestion de stock pour tous les réactifs et consommables utilisés a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7834-6C25-48B8-A7B0-F0B1797F36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gestion de stock 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gmente l’efficience et l’efficacité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pondra aux besoins des patients et du personnel de so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 la disponibilité des produits quand nécess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434E-D701-4AB8-B5DA-298B3D76F2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58128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121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609480" y="10666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F922-C1DB-4D1D-8715-A544E99D5E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n demande à votre laboratoire de se préparer en vue d’une épidémie de grippe potentiel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ls sont les différents facteurs à étudier en planifiant ce processu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ls problèmes seriez vous susceptibles de rencontrer lors de la planification et de la mise en oeuv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B1C9-CBDF-4D64-B5EE-2488BCBDA0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43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4859-8CBF-45BD-B194-FA44335B24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Bénéfices d’un programme</a:t>
            </a:r>
            <a:br>
              <a:rPr sz="3200"/>
            </a:b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6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609480" y="3352680"/>
            <a:ext cx="2438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Fournitures et réactifs toujours dispon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5943600" y="3200400"/>
            <a:ext cx="28195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oins de gaspill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Budget respec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2" descr="j0424198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15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maint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7" descr="lab1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153" name="Line 19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0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1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500F-2922-418E-8143-43066289FE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quilibre entre disponibilité du stock et dates de péremption des produits.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durée de vie des réactifs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var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actifs RIA : 3 à 8 sema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Kits API : 4 à 12 m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tisérums : 1 à 4 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isques antibiotiques : 2 à 3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ilieu de culture prêt à l’emploi : 1 à 2 m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ilieu de culture déshydraté : 3 à 5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FIL738"/>
          <p:cNvPicPr/>
          <p:nvPr/>
        </p:nvPicPr>
        <p:blipFill>
          <a:blip r:embed="rId1"/>
          <a:stretch/>
        </p:blipFill>
        <p:spPr>
          <a:xfrm>
            <a:off x="5410080" y="2514600"/>
            <a:ext cx="3429000" cy="28875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Défis de la gestion de sto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5791320" y="36576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En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7467480" y="33526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ate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érem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16CE-8D2E-4A68-A4DB-5489B0E61C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principau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6" descr="Untitled-46"/>
          <p:cNvPicPr/>
          <p:nvPr/>
        </p:nvPicPr>
        <p:blipFill>
          <a:blip r:embed="rId1"/>
          <a:stretch/>
        </p:blipFill>
        <p:spPr>
          <a:xfrm>
            <a:off x="228600" y="1438200"/>
            <a:ext cx="868680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79C3-6C35-45D4-A1E1-5BD1B92DCA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pour qualifier et sélectionner des vend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finir des critères de sélection pour les consommables ou réactifs à ache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ercher des informations auprès d’autres laborato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aluer avant l’approvisionnement et après la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2573-35D7-4189-82FA-BE902040D6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sidé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éterminer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odalités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de paiemen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8"/>
          <p:cNvGrpSpPr/>
          <p:nvPr/>
        </p:nvGrpSpPr>
        <p:grpSpPr>
          <a:xfrm>
            <a:off x="457200" y="1143000"/>
            <a:ext cx="5409720" cy="2971080"/>
            <a:chOff x="457200" y="1143000"/>
            <a:chExt cx="5409720" cy="2971080"/>
          </a:xfrm>
        </p:grpSpPr>
        <p:sp>
          <p:nvSpPr>
            <p:cNvPr id="177" name="AutoShape 9"/>
            <p:cNvSpPr/>
            <p:nvPr/>
          </p:nvSpPr>
          <p:spPr>
            <a:xfrm>
              <a:off x="457200" y="1143000"/>
              <a:ext cx="5409720" cy="29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0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buClr>
                  <a:srgbClr val="ffcc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Négocier les pri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buClr>
                  <a:srgbClr val="ffcc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Revoir </a:t>
              </a:r>
              <a:br>
                <a:rPr sz="2000"/>
              </a:b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contra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Line 17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3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1"/>
          <p:cNvSpPr/>
          <p:nvPr/>
        </p:nvSpPr>
        <p:spPr>
          <a:xfrm>
            <a:off x="609480" y="1295280"/>
            <a:ext cx="5105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Comprendre les exigences du gouver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2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3" descr="j0412568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4" descr="j0311860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5" descr="j0185303"/>
          <p:cNvPicPr/>
          <p:nvPr/>
        </p:nvPicPr>
        <p:blipFill>
          <a:blip r:embed="rId3"/>
          <a:stretch/>
        </p:blipFill>
        <p:spPr>
          <a:xfrm>
            <a:off x="6705720" y="5029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6"/>
          <p:cNvSpPr/>
          <p:nvPr/>
        </p:nvSpPr>
        <p:spPr>
          <a:xfrm>
            <a:off x="5638680" y="373392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ssurer disponibilité et livra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12:07:52Z</dcterms:created>
  <dc:creator>sam5</dc:creator>
  <dc:description/>
  <dc:language>en-US</dc:language>
  <cp:lastModifiedBy>dolmazonv</cp:lastModifiedBy>
  <dcterms:modified xsi:type="dcterms:W3CDTF">2010-04-07T15:05:22Z</dcterms:modified>
  <cp:revision>130</cp:revision>
  <dc:subject/>
  <dc:title>Slide 1</dc:title>
</cp:coreProperties>
</file>